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05A-7273-4634-8B94-D71CB86E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7B7-87BB-460F-AA6C-976DABFF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83A-EB30-4D34-B447-8081B109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20B-00D4-4D05-9F45-1D468CE9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5FA-3813-4599-8B1E-AB86529A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9F4-4018-4FB7-A6DB-393B443D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668-0291-416B-B8CE-DF6F0A98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C99-AC21-4801-ADDA-1A57022F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C12-EC4E-4789-BEE8-D9EE8DCE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9CF-7888-4E86-8E4C-D260A2E4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B12-BE18-4A61-8D7E-0A994260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CD6-9FB8-41AD-8FA2-AA8FA77E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8A64-702A-483F-98B9-B40E4CFFA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arp.org/politics-society/history/info-03-2011/the-mirabal-sisters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e llamo ___________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lase 8 IM</a:t>
            </a:r>
            <a:br>
              <a:rPr sz="3600"/>
            </a:b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La fecha es el 8 de febr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899136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pósito # 34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iénes son las Hermanas Mirab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ctiv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the KWL chart. Only the KNOW &amp; WANT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to complet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the Time of the Butterfl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ctive notes during the following Power Point Presentation and Vid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Hermanas Mira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arp.org/politics-society/history/info-03-2011/the-mirabal-sisters.html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are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# 34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the BUTTERFLY PROJECT BY THURS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the Time of the Butterfl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uestionnai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21:11:52Z</dcterms:created>
  <dc:creator>Helen Zumaeta</dc:creator>
  <dc:description/>
  <dc:language>en-US</dc:language>
  <cp:lastModifiedBy>Helen Zumaeta</cp:lastModifiedBy>
  <cp:lastPrinted>2013-02-08T14:59:20Z</cp:lastPrinted>
  <dcterms:modified xsi:type="dcterms:W3CDTF">2013-02-08T20:53:31Z</dcterms:modified>
  <cp:revision>13</cp:revision>
  <dc:subject/>
  <dc:title>Me llamo ___________ Clase 8 IM La fecha es el 31 de enero del 2012</dc:title>
</cp:coreProperties>
</file>